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8E2-4D8A-4BB2-A391-A0688ADC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182-A7E8-4B48-AD0E-F6670B31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6734-261B-4B37-AD39-66621EB1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item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598E-C56E-4D56-BBC9-8237ADB1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ervic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E83-9AB3-41DA-86D0-0210334C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ubcontracted Servic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AE1-4123-4108-9616-9480DF50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non-inventory parts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FD6A-624B-4BA0-8AB8-0B21D8B2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passed through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3EC-F462-43F8-85DB-37700BE5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other charge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C237-A68F-4B6A-83BF-5ECDF7F8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 sales tax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8F57-EC16-47C1-9668-4415B5D8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Term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9F2-81AC-4144-BCCA-222314B4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setting up Standard and Date-Driven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944-B2A2-4237-B050-17E0C03D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rice Level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529-6438-481D-9462-9D582187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FCE-F60C-450D-B928-233B0678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using Custom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F1A-5D57-4A03-BF93-BACE5F46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dding a custom field to a customer rec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6AE3-5631-4DC4-BCAE-57E9AC78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modifying a sales form templa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804-E520-458F-9F26-5C87AB6D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8E24-AA98-4D93-BCFF-D7F1020E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references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5AA-0800-4E51-8BD3-9019CCDF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642F-BF1B-4E5C-A2EE-3A05D536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69B-EFB4-41E0-8BC2-9FADBE95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84F1-7DE3-47DD-9C43-F4DFB3721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customization of Icon b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B1C-DAB5-4FD0-9F42-62646A7B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A81-EC8B-45D0-A0EF-109ED1F6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Item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8B22-664C-4B08-A94C-13A01F8C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7093-E5A3-4629-904F-D0C446B50A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1415-BF45-4C54-AEDC-51213CAE64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D29A-D6BF-4AC6-B700-ABB7ECC49A5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CC9B-CEF7-40E3-A3E7-91F4112050E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D5F6-3C2D-4094-8F7C-5BE8A0DDF2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E4CC-0219-488C-AB06-D58469318F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F886-653C-4F6B-B468-99A05BE8D2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6F25-2868-45FF-8878-FB2F577F213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4EB6-7ABC-4684-95E7-7402A98D02D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279E-02C1-43F8-AB44-F820B26D44A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7BCD-DAB9-4F0C-B880-B2ACF50CE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2B19-0BA5-4815-8507-5E2BB91E5BA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C913-0095-4601-97E9-BED830266BB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3C01-D71C-49F9-9C38-4325B89769E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15ED-47A7-4F0F-8176-C9D5520624B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2122-CB3C-4C0B-A6EC-FDA504DA868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C22F2-9D13-4294-A9A9-AEEE3AB5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365B0-2DA3-4516-93A8-BC092D3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ACCC2-31D4-46C2-B54F-0B37447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0CADA-0599-4F74-B567-FD88932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0F2B4-3F38-4F0B-9B1B-00855F3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BEEC-31BD-4657-8029-E0BE76258E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E66F-DC27-4CAB-BC8E-D92BC38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D04E-689D-4D69-91B8-44AA7FE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B40E1-4FE9-467D-B3A3-20DF205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307D5-A101-42F7-923B-00351F8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C5764-82F2-44AF-B1F7-8312DA4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32DE-7D8D-405E-9E52-6DABD3B8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DC8F8-0AED-4A6D-A08E-DCD5F4D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A757F-C9BD-446A-87DE-35360553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BED59-FDF5-437A-A68E-10299BDC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113FE-A811-43E6-967B-3C0A158E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BCE2C-5B1A-42FF-9170-E2C1A6F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765A6-CBAD-40FB-BE5D-445FCFD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6B5DC-CACC-422D-8088-67CCBE0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504B1-96AA-4882-BDCF-D4533AD3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B2E76-2DE4-40CF-AE80-76159AB0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E40FB-5630-40E8-B264-451150D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3989B-5A18-4AAF-85DB-33951109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E906E-B24F-4AA3-8DF2-40A790F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00686-0AD0-471B-B82F-001234A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48FE-1B6E-4BAC-8002-3AFC3AA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AE017-471B-40C3-97F2-BE4850BD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5A81F-D648-4C39-ABD6-C82AE5A3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38E3F-A459-4861-AD0F-05D0DB78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E9E7C-09EC-4542-8A9F-862E985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899B0-34BD-48D1-9F80-1F62FBC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EE8B-AB38-4B62-8B68-B9EEBF19F3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97657-4440-488E-B4F8-E9428802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3A876-1DFA-4EB0-8699-FA08870F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5C68F-59CB-49DB-9FE1-7EDCE03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21F06-BDA1-42F2-B73F-15FBAA4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18E6B-597E-4522-A581-365E0AA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F5F30-8CDA-420A-A33A-122B8E0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35D55-A0B5-43E9-A8F7-16C1287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66443-0899-46BD-8852-11201F1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142DF-373B-4D23-9BE1-8CF0248B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765FA-D0C4-4F8A-9160-A7E79D68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85C3E-12D2-4AB6-AB9B-17A3A67F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A399F-4D0A-4980-AFE6-82D9602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F5FD8-711E-42BF-84BA-D1F5D7A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84FC8-40D8-499F-AD69-9C711CB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764B-D32E-4103-9AEA-E8D4FA5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A5CE4-3055-4550-98E6-0F6AD12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505F5-D725-47CC-866E-9BE0D7CD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C03C8-6CA9-4A7B-9C5B-2AAEAE9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FF874-2E9C-46FB-B022-5392066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C0FB-13A6-4A9A-86D9-CC2A664E83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50143-235A-4CA6-8BE8-951E756A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9F70E-1AC9-49AE-BE34-B76D9B1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ECE26-6C78-4180-BA94-BF561778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53723-20F1-446A-9396-FD4D77B5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B3FE7-92DB-4223-BB73-05F9F1B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002C6-ABB5-47BA-BC9F-5A5E07D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62C78-4AF4-492A-BDEA-95E487C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B660D-ECB6-4E55-B421-3861CEF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7DF25-7D25-4E66-87E6-6A815FD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306CC-EE8E-44BF-94D0-67A3C081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D555-B8DC-4765-8E2E-903EA955A8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90A30-4EF6-4EBD-B3C8-F113D455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4C0B9-4858-4DF3-9578-61D8EC4B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8FED1-94DC-49C9-8630-98B2F661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1F5D5-9EB4-44D7-85D9-A203015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CFB71-B389-49F0-A21E-E0ACAC0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A7750-3AE5-42D9-ABD4-3C85870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EFA57-9BF7-438F-A912-4E5FDFA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C6F7F-0E31-4FF2-A84D-A2D34F7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8E2FB-7779-4E56-905D-35127FF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51FF6-8FB4-4ADE-8387-2320C15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0CB2-766F-4A0A-97E5-855477EDC1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3BF73-6E7C-4ADC-A09B-0ACE853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E4E8A-C542-401A-A194-DD617F7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E6ECB-63E6-4A83-93EF-AA10BF68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F6C98-0902-4D98-8172-555AC2B7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688A7-EC74-43F9-89F5-959F5601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B5390-AE12-487D-BEFE-7E8F23E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DD633-3DEE-4B19-A10F-0244289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E686D-4FD5-404B-AD7B-C10ED97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50E89-080A-4AA5-97E4-13DF4BD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BFE1E-A41E-4E6D-B364-F8D9954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1AD8-CD5D-4F1B-A4B0-BEDD9E2CFF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2CB40-D022-472D-959B-8EDBD6C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9E23-80AC-475C-BA76-7492488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B7C0B-FCCE-42C1-8EA9-5D88D06D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D6122-8E5E-44FA-96B8-BC51EA93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71C2F-6466-4669-9BBA-B6B15809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D3E5-CA66-44B6-BDB3-7970F1E86B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8E2-FA10-4D9F-A349-1176C69032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C3F-857B-4810-BA0E-72C72FA8DE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AA0C-1E81-4C34-B953-2DA928A11D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978-043C-4058-B2E7-F8A2EAB0E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39AD-AAB5-4F72-AAD0-424B5318C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057-30AD-433E-80A8-B4869A12EA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17A-820A-4C7B-B5B2-35A5E9BF3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25B-5FEA-4B2E-A2A5-2BF352AD2C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447D-658E-4CF6-AFBD-49C2D5124F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Rectangle 7" descr=""/>
          <p:cNvPicPr/>
          <p:nvPr/>
        </p:nvPicPr>
        <p:blipFill>
          <a:blip r:embed="rId1"/>
          <a:stretch/>
        </p:blipFill>
        <p:spPr>
          <a:xfrm>
            <a:off x="530280" y="1755720"/>
            <a:ext cx="8242200" cy="2200320"/>
          </a:xfrm>
          <a:prstGeom prst="rect">
            <a:avLst/>
          </a:prstGeom>
          <a:ln w="0">
            <a:noFill/>
          </a:ln>
        </p:spPr>
      </p:pic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7" name="Rectangle 4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several different types of items in QuickBoo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39" name="Picture 4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3657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3" descr=""/>
          <p:cNvPicPr/>
          <p:nvPr/>
        </p:nvPicPr>
        <p:blipFill>
          <a:blip r:embed="rId2"/>
          <a:stretch/>
        </p:blipFill>
        <p:spPr>
          <a:xfrm>
            <a:off x="1359000" y="1828800"/>
            <a:ext cx="6426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3" descr=""/>
          <p:cNvPicPr/>
          <p:nvPr/>
        </p:nvPicPr>
        <p:blipFill>
          <a:blip r:embed="rId2"/>
          <a:stretch/>
        </p:blipFill>
        <p:spPr>
          <a:xfrm>
            <a:off x="1406520" y="1714680"/>
            <a:ext cx="63309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tretch/>
        </p:blipFill>
        <p:spPr>
          <a:xfrm>
            <a:off x="1208160" y="1676520"/>
            <a:ext cx="67276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Rectangle 2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7431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2"/>
          <a:stretch/>
        </p:blipFill>
        <p:spPr>
          <a:xfrm>
            <a:off x="1641600" y="1863720"/>
            <a:ext cx="5860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467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2"/>
          <a:stretch/>
        </p:blipFill>
        <p:spPr>
          <a:xfrm>
            <a:off x="674640" y="1828800"/>
            <a:ext cx="7794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yment terms for your Invoices and Bi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s used to calculate when the Invoice or Bill is d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terms specified on the transaction include a discount for early payment, QuickBooks also calculates the date on which the discount exp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,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ustomers &amp; Vendor Profile Lis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erms Lis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allows you to define two types of term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tandar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rms calculate based on how many days from the Invoice or Bill date the payment is due or a discount is ear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ate-Driv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erms calculate based on the day of the month that an Invoice or Bill is due or a discount is earn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ust the sales amount of particular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adjust each item individually by selecting price level in the RATE column drop-down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assign a Price Level to a Customer’s record price level is set by defa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ify QuickBooks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QuickBooks Menus and Window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he Icon Bar and Display Sett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Item List and Other 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ustom Fields to Track Extra Data on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nd customize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e custom fields for tracking additional information specific to your customers, vendors, and employe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n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Fields button on the Additional Info tab of a Customer or Vendor recor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define up to fifteen custom fields in the QuickBooks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486400" cy="4729320"/>
          </a:xfrm>
          <a:prstGeom prst="rect">
            <a:avLst/>
          </a:prstGeom>
          <a:ln w="0">
            <a:noFill/>
          </a:ln>
        </p:spPr>
      </p:pic>
      <p:pic>
        <p:nvPicPr>
          <p:cNvPr id="1561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62" name="AutoShape 7"/>
          <p:cNvSpPr/>
          <p:nvPr/>
        </p:nvSpPr>
        <p:spPr>
          <a:xfrm>
            <a:off x="6705720" y="3581280"/>
            <a:ext cx="1676160" cy="1067040"/>
          </a:xfrm>
          <a:solidFill>
            <a:srgbClr val="ffffff"/>
          </a:solidFill>
          <a:ln w="3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lick this button to define custom fields for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710560" cy="123012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emplates to change form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empl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mplate List contains the templates for all for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ify QuickBooks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QuickBooks Menus and Window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e the Icon Bar and Display Sett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Item List and Other 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ustom Fields to Track Extra Data on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nd customize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ny customizable options allow you to configure QuickBoo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two types of preferenc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any 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r 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access QuickBooks preferences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y Preferenc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ompany Preferenc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ab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r preferences are specific to the user that is currently using the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references tab in the Preferences wind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 do not affect other us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any Preferences make global changes to the features and functionality of the data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the Administrator of the data file can make changes to Company Prefer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448840" cy="157356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vorite Men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con B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9" name="Picture 6" descr="C:\Users\DPEMBR~1\AppData\Local\Temp\SNAGHTMLaee4439.PNG"/>
          <p:cNvPicPr/>
          <p:nvPr/>
        </p:nvPicPr>
        <p:blipFill>
          <a:blip r:embed="rId2"/>
          <a:stretch/>
        </p:blipFill>
        <p:spPr>
          <a:xfrm>
            <a:off x="561960" y="3124080"/>
            <a:ext cx="3330720" cy="259092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7" descr="C:\Users\DPEMBR~1\AppData\Local\Temp\SNAGHTMLaf03970.PNG"/>
          <p:cNvPicPr/>
          <p:nvPr/>
        </p:nvPicPr>
        <p:blipFill>
          <a:blip r:embed="rId3"/>
          <a:stretch/>
        </p:blipFill>
        <p:spPr>
          <a:xfrm>
            <a:off x="4454640" y="3124080"/>
            <a:ext cx="412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15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stomize using the Customize Icon Bar window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dit or delete existing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 separators between ic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osition icon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ing Add “window-name” to Icon Ba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the window open,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dd “window-name” to Icon B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oose an icon and enter a Label, then click O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Rectangle 2" descr=""/>
          <p:cNvPicPr/>
          <p:nvPr/>
        </p:nvPicPr>
        <p:blipFill>
          <a:blip r:embed="rId1"/>
          <a:stretch/>
        </p:blipFill>
        <p:spPr>
          <a:xfrm>
            <a:off x="55440" y="304920"/>
            <a:ext cx="9021960" cy="123192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help you track more details about your sales, QuickBooks provides several lis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Items Li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Terms Li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Price Levels Li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tem list identifies products and services purchased and/or so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d on the sales for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handles the behind the scene accounting for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19:02Z</dcterms:modified>
  <cp:revision>235</cp:revision>
  <dc:subject/>
  <dc:title>Chapter 7 Customizing QuickBooks</dc:title>
</cp:coreProperties>
</file>